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1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0.gif" ContentType="image/gif"/>
  <Override PartName="/ppt/media/image22.gif" ContentType="image/gif"/>
  <Override PartName="/ppt/media/image17.jpeg" ContentType="image/jpeg"/>
  <Override PartName="/ppt/media/image5.gif" ContentType="image/gif"/>
  <Override PartName="/ppt/media/image21.gif" ContentType="image/gif"/>
  <Override PartName="/ppt/media/image19.gif" ContentType="image/gif"/>
  <Override PartName="/ppt/media/image16.gif" ContentType="image/gif"/>
  <Override PartName="/ppt/media/image1.wmf" ContentType="image/x-wmf"/>
  <Override PartName="/ppt/media/image14.gif" ContentType="image/gif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1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365-572E-43F6-91C7-318ACBC7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292-1022-4C7B-AEA7-8B7B7EB4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983-2148-4E3A-81CD-35BC0968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169-7994-4AE5-9209-84162673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926-A1DC-4010-A879-70E0D5B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A4B-BF0A-4B34-BF1D-54044FFB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391-82DC-4C43-A160-039856F8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A2C-6B5A-41BD-89A0-E1466962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CE9-592F-4FFD-94D7-24421E92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718-A36C-4F26-89A9-C8EF0C5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29C-9162-4DD5-8E1F-DF126D3D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87E-DB19-45AF-B6E8-8442EE3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5F71-DE1F-438C-81F0-17625703F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mmigration.museum.vic.gov.au/timeline" TargetMode="Externa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cismnoway.com.au/links.html#mr" TargetMode="External"/><Relationship Id="rId2" Type="http://schemas.openxmlformats.org/officeDocument/2006/relationships/hyperlink" Target="http://www.racismnoway.com.au/links.html#mr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cashreg.wav" TargetMode="External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56528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00360" y="3500280"/>
            <a:ext cx="5210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 are one but we are ma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2716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86200" y="1295280"/>
            <a:ext cx="170028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21924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867280" y="380880"/>
            <a:ext cx="2346480" cy="176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09680" y="1905120"/>
            <a:ext cx="405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immigration.museum.vic.gov.au/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6040" y="981000"/>
            <a:ext cx="81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lick on the link below and take notes on the impor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events that impacted on migration to Austr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6640" y="26780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5760" y="2286000"/>
            <a:ext cx="84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Click on the file and print the sheet to Note 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Only write down the key words/ phrases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put these into meaningful sentences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662940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43200" y="304920"/>
            <a:ext cx="18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IMELIN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329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3280" y="349200"/>
            <a:ext cx="748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raw a timeline of events that impa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on Australian Immigratio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using your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You can choose to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In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ig paper and tex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4468680"/>
            <a:ext cx="3047760" cy="2275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15040" y="2819520"/>
            <a:ext cx="1214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Click on the website below and choose one agency to research and record your findings on the 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33"/>
                </a:solidFill>
                <a:latin typeface="Times New Roman"/>
              </a:rPr>
              <a:t>Next share this information with the class on the big c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A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acismnoway.com.au/links.html#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/>
          </p:cNvPr>
          <p:cNvSpPr/>
          <p:nvPr/>
        </p:nvSpPr>
        <p:spPr>
          <a:xfrm>
            <a:off x="7924680" y="2978280"/>
            <a:ext cx="814680" cy="901440"/>
          </a:xfrm>
          <a:custGeom>
            <a:avLst/>
            <a:gdLst>
              <a:gd name="textAreaLeft" fmla="*/ 52560 w 814680"/>
              <a:gd name="textAreaRight" fmla="*/ 762120 w 814680"/>
              <a:gd name="textAreaTop" fmla="*/ 52560 h 901440"/>
              <a:gd name="textAreaBottom" fmla="*/ 848880 h 901440"/>
            </a:gdLst>
            <a:ahLst/>
            <a:rect l="textAreaLeft" t="textAreaTop" r="textAreaRight" b="textAreaBottom"/>
            <a:pathLst>
              <a:path w="21600" h="23899">
                <a:moveTo>
                  <a:pt x="0" y="0"/>
                </a:moveTo>
                <a:lnTo>
                  <a:pt x="21600" y="0"/>
                </a:lnTo>
                <a:lnTo>
                  <a:pt x="21600" y="23899"/>
                </a:lnTo>
                <a:lnTo>
                  <a:pt x="0" y="23899"/>
                </a:lnTo>
                <a:close/>
              </a:path>
              <a:path fill="lightenLess" w="21600" h="23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99">
                <a:moveTo>
                  <a:pt x="21600" y="0"/>
                </a:moveTo>
                <a:lnTo>
                  <a:pt x="21600" y="23899"/>
                </a:lnTo>
                <a:lnTo>
                  <a:pt x="20200" y="22499"/>
                </a:lnTo>
                <a:lnTo>
                  <a:pt x="20200" y="1400"/>
                </a:lnTo>
                <a:close/>
              </a:path>
              <a:path fill="darkenLess" w="21600" h="23899">
                <a:moveTo>
                  <a:pt x="21600" y="23899"/>
                </a:moveTo>
                <a:lnTo>
                  <a:pt x="0" y="23899"/>
                </a:lnTo>
                <a:lnTo>
                  <a:pt x="1400" y="22499"/>
                </a:lnTo>
                <a:lnTo>
                  <a:pt x="20200" y="22499"/>
                </a:lnTo>
                <a:close/>
              </a:path>
              <a:path fill="lighten" w="21600" h="23899">
                <a:moveTo>
                  <a:pt x="0" y="23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99"/>
                </a:lnTo>
                <a:close/>
              </a:path>
              <a:path fill="darkenLess" w="21600" h="23899">
                <a:moveTo>
                  <a:pt x="5273" y="5135"/>
                </a:moveTo>
                <a:lnTo>
                  <a:pt x="12271" y="5135"/>
                </a:lnTo>
                <a:lnTo>
                  <a:pt x="16327" y="8634"/>
                </a:lnTo>
                <a:lnTo>
                  <a:pt x="16327" y="18765"/>
                </a:lnTo>
                <a:lnTo>
                  <a:pt x="5273" y="18765"/>
                </a:lnTo>
                <a:close/>
              </a:path>
              <a:path fill="darken" w="21600" h="23899">
                <a:moveTo>
                  <a:pt x="12271" y="5135"/>
                </a:moveTo>
                <a:lnTo>
                  <a:pt x="16327" y="8634"/>
                </a:lnTo>
                <a:lnTo>
                  <a:pt x="12271" y="863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15000" y="4572000"/>
            <a:ext cx="990720" cy="858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438360" y="609480"/>
            <a:ext cx="226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O HELPS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2120" y="304920"/>
            <a:ext cx="7029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WE CALL AUSTRALIA HO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965880" y="2251080"/>
            <a:ext cx="803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esign a poster to advertise Austra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as a great place to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Include pictures, slogans and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information on the opportunities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has to of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e big paper and tex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e Inspiration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Word or Creative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Remember your poster needs to encourage people to come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1211400" cy="109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10065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5680" y="730080"/>
            <a:ext cx="774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Use a mindmap to organise your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from the immigration muse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Use big paper and tex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Click on the file to go to mindma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instructions. Print these and pas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them into your book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7924680" y="3200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0"/>
            <a:ext cx="2457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INDMAP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4634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69960" y="24300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240" y="471600"/>
            <a:ext cx="6950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82880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143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6002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2800" y="1422360"/>
            <a:ext cx="7567560" cy="5455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prised you at the immig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e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you feel about what you he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till need to fin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Write a letter to the museum telling of w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you learnt (from your mindmap) as well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answering the questions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380880"/>
            <a:ext cx="4857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IMMIGRATION MUSEU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43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996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960" y="1339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76212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rite a report about your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How did you feel about intervie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someone about their liv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Times New Roman"/>
              </a:rPr>
              <a:t>What did you lea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What would you do differently next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Click on the link to go to a chart to summarise your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/>
          </p:cNvPr>
          <p:cNvSpPr/>
          <p:nvPr/>
        </p:nvSpPr>
        <p:spPr>
          <a:xfrm>
            <a:off x="57913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19400" y="0"/>
            <a:ext cx="290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NTERVIEW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556272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838080" y="5943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172200" y="304920"/>
            <a:ext cx="1131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533520"/>
            <a:ext cx="5639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280" y="425520"/>
            <a:ext cx="8016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ake predictions about the 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backgrounds of the children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Find out about the number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people from other cultura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backgrounds in our school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Represent these in a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using Exc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Click on the l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to see the school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457200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  <a:hlinkClick r:id="rId2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3794" y="11783"/>
                </a:moveTo>
                <a:lnTo>
                  <a:pt x="17806" y="4777"/>
                </a:lnTo>
                <a:lnTo>
                  <a:pt x="17806" y="1879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20720" cy="102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315200" y="2754360"/>
            <a:ext cx="66348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6019920" y="4038480"/>
            <a:ext cx="1382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45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90440" y="2622600"/>
            <a:ext cx="876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at if the First Fleet never com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>
            <a:hlinkClick r:id="rId2"/>
          </p:cNvPr>
          <p:cNvSpPr/>
          <p:nvPr/>
        </p:nvSpPr>
        <p:spPr>
          <a:xfrm>
            <a:off x="47242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4040" y="3854520"/>
            <a:ext cx="334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on the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o use De Bono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nking h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0600" y="1314360"/>
            <a:ext cx="6764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imes New Roman"/>
              </a:rPr>
              <a:t>How might this data have changed o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imes New Roman"/>
              </a:rPr>
              <a:t>the last 50 to 1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ight it change in the fu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Times New Roman"/>
              </a:rPr>
              <a:t>Click on the file and complet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Times New Roman"/>
              </a:rPr>
              <a:t>predict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Brainstorm possible prediction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probable outcomes. On the proof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record facts that support 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/>
          </p:cNvPr>
          <p:cNvSpPr/>
          <p:nvPr/>
        </p:nvSpPr>
        <p:spPr>
          <a:xfrm>
            <a:off x="739152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Less" w="21600" h="21607">
                <a:moveTo>
                  <a:pt x="5273" y="3989"/>
                </a:moveTo>
                <a:lnTo>
                  <a:pt x="12271" y="3989"/>
                </a:lnTo>
                <a:lnTo>
                  <a:pt x="16327" y="7488"/>
                </a:lnTo>
                <a:lnTo>
                  <a:pt x="16327" y="17619"/>
                </a:lnTo>
                <a:lnTo>
                  <a:pt x="5273" y="17619"/>
                </a:lnTo>
                <a:close/>
              </a:path>
              <a:path fill="darken" w="21600" h="21607">
                <a:moveTo>
                  <a:pt x="12271" y="3989"/>
                </a:moveTo>
                <a:lnTo>
                  <a:pt x="16327" y="7488"/>
                </a:lnTo>
                <a:lnTo>
                  <a:pt x="12271" y="74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228600"/>
            <a:ext cx="292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THE DAT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633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8960" y="299880"/>
          <a:ext cx="8220240" cy="625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299880"/>
                    <a:ext cx="822024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392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76080" y="103500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What countries are included in each of th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major reg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731520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4880" y="3048120"/>
            <a:ext cx="550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lick on the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o find the chart and fill it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ave it to your own folde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24400" y="304920"/>
            <a:ext cx="20952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ATISTI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19051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7:03:05Z</dcterms:created>
  <dc:creator>daniel</dc:creator>
  <dc:description/>
  <dc:language>en-US</dc:language>
  <cp:lastModifiedBy>stpeters</cp:lastModifiedBy>
  <dcterms:modified xsi:type="dcterms:W3CDTF">2008-07-16T02:06:03Z</dcterms:modified>
  <cp:revision>16</cp:revision>
  <dc:subject/>
  <dc:title>PowerPoint Presentation</dc:title>
</cp:coreProperties>
</file>